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20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GHX KEY TELEPHONE SYSTEM / SLT User Guide                                                        GHX-308A/616/36/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7920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LT User Guide for GHX Syste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0280" y="1587600"/>
            <a:ext cx="1930320" cy="52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093680"/>
            <a:ext cx="245448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For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4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call forwar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- For unconditional,   1 - For no answer call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 - For busy call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 - For busy/no answer call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 - Follow m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 - Off-net (Forward to outsid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n GHX-308A, just unconditional call forward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vailable. You need not dial the call forward type no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want forward number 1-4, dial the exten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umber receiving calls.  (If you select forward type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, dial  telephone number to be forwarded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ake hook flash.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cancel Call Forward, lift handset and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4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Queu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access a busy line, you may request the system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place you on hold until the next line becomes id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busy line. (Busy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 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oring Station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5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peed dial number b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00~09 : 36/46,  00-19 : 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peed dial number you wish to stor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ly press 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Using Spee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7 5 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speed number bin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00~09 : 36/46,  00-19 : 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 Call Wa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ly press 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consult with them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ceiving a Call Wa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ceive call wait warning tone by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 on the present call to take a new one,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gnore the call wait sign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1520" y="1486080"/>
            <a:ext cx="1600200" cy="393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87560"/>
            <a:ext cx="2286000" cy="63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appropriate access cod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08A : 9,  81~83 or  8801~88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6 : 9,  81~87 or  8801~88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6 : 9,  81~87 or  8801~8814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16 : 9,  81~87 or  8801~88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n Incoming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3-digit intercom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 Call on 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Exclusive Ho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briefly pres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retrieve the call, briefly press and relea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hook switch aga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 Call on Ho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System Ho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briefly pres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retrieve the call held by itself, 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 *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Retrieve a Call on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 9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or  8 #) and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ine no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01-03 : 308A,  01-12 : 36, 01-14 : 46, 01-06 : 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Transfer a Call to Internal Par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briefly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number to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Or, hang up after you announce the called par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at a call is waiting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las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sconnects the present outside line and reseize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one from PST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 briefly pres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and the phon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0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 (or # # in GHX-616/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hearing an unattended phone ringing in you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rea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will be connected to the incoming extensi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outside lin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9680" y="5187960"/>
            <a:ext cx="2127240" cy="125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920" y="1093680"/>
            <a:ext cx="245412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essage Wait 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leave a message wait indicati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intercom station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ly press and release the hook switc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answer a message wait indicati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This feature is allowed in GHX-36/46, and this can not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e used without Message Wait Unit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station that left message will r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b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request callback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busy intercom station number.(Busy tone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6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may set up a conference of two external or internal station. (To set up a conference of two external lines, multi line conference should be enabled.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e an outside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ly press and release the hook switch and dial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number of internal station you wish to ad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station answers, briefly press and releas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hook switch aga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prevent unauthorized outside call on your station b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thers, the system provides user with means to lock/ unlock the station by Access Authorization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4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and enter 4 digits Access Authorizati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de (0000~999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change Access Authorization Cod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5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your current access authorization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your new access authorization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r station has been registered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7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5960" y="1112760"/>
            <a:ext cx="236232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r station has been registered and locked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8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and access authorization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Wake-up C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system automatically sends ring signal to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which registers wake-up tim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1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effective until canceled) or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2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f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e-day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4-digit wake-up time (HHMM) in 24-hou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ode. (HH : 00~23, MM:00~5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o cancel wake-up cal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4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hearing an incoming signal on other phone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ight bell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UNA Access Code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7 7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will be connected to an incoming call if it w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ed as an UNA li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reselected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can choose a preselected message to be displayed on the LCD of the phone calling your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2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following number to leave a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01~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essage Type - 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0 :  cancel the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1 :  OUT TO LUN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2 :  ON VA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3 :  OUT OF OFFICE - BACK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4 :  OUT OF OFFICE - BACK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5 :  OUT OF OFFICE - BACK T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6 :  OUT OF OFFICE - BACK UNK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7 :  OUT OF T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8 :  IN A M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9 : 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 0 : 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 1~2 0 :  Customized messag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8720" y="1467000"/>
            <a:ext cx="2210040" cy="1371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720" y="3753000"/>
            <a:ext cx="221004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000" y="1087560"/>
            <a:ext cx="24346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essage Type - 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It is available for only GHX-36/46/616. You can sel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Type I or II by programming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0 : cancel the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1:  Lunch, return at xx:xx (xx:xx : tim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2 : vacation, return on xx:xx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xx:xx : time or dat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3 : Absent, return at clk xx:xx (xx:xx : tim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4 : Absent, return at date xx:xx(xx:xx : dat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5 : Out Of Office - Back T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6 : Call xxxx (max. 12 digits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7 : In Office xxx (3 digits internal station numbe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8 : Meeting clk xx:xx (xx:xx : time (4 digits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 9 :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 0 :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 1~2 0 : Customized messages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Paging </a:t>
            </a:r>
            <a:r>
              <a:rPr b="0" i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Only external page is available for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page zon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ive your message in normal voice t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 to complete pa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age Zon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all zones    : # 0    Call all internal zones : #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1  : # 1    External Page            : #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nal zone 2  : # 2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answer page: # 7 (Dial ## in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Name Display Pro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5 *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and enter name code. (up to 7 characters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ake hook flas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To erase name display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55*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and make hook flash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ND (Do Not Distur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5 3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to make or remove DN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203040" y="4673520"/>
          <a:ext cx="2869920" cy="14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3040" y="4673520"/>
                    <a:ext cx="286992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5T10:29:19Z</dcterms:created>
  <dc:creator>USER</dc:creator>
  <dc:description/>
  <dc:language>en-US</dc:language>
  <cp:lastModifiedBy>장재진</cp:lastModifiedBy>
  <cp:lastPrinted>2000-04-16T00:52:08Z</cp:lastPrinted>
  <dcterms:modified xsi:type="dcterms:W3CDTF">2000-06-19T10:48:36Z</dcterms:modified>
  <cp:revision>44</cp:revision>
  <dc:subject/>
  <dc:title>슬라이드 제목 없음</dc:title>
</cp:coreProperties>
</file>